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3.wmf" ContentType="image/x-wmf"/>
  <Override PartName="/ppt/media/image11.jpeg" ContentType="image/jpeg"/>
  <Override PartName="/ppt/media/image9.jpeg" ContentType="image/jpeg"/>
  <Override PartName="/ppt/media/image29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0A52-4C2A-430E-A034-FC3B46F98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8911-2DE8-4223-AB48-BD309C959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32EE-752F-47C1-AC2A-28605AA43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BC37-DFD1-4209-8A00-6D331CE3F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4452-B804-49F7-9247-5F165C492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8 or 9 might be a nice place to put the Batman (utility belt) and terminator (integrated) pics. 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296D-1E31-4B06-B9CC-724BF54AA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526B-BE8E-4C3F-994D-E20B93897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fences or teaching how to swim?  Unless we get in the water with them, we will not be a presence in their world.  We need to teach them how to behave in a virtual and a real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xamples from each of u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 – IM, Text msg. and 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s – Blog and Flick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y – Webcam and You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C495-9F47-4101-8518-3D5BD857B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7EEE-4DE5-4B2C-B02E-0502A6151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2F62-921D-480A-ADFE-0D61723E8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114C-840F-44AC-B7A2-26B09D6E6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733-5E82-4AC1-9129-149C14E2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9710-CAFE-480A-96F9-8A9649D7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078F-ABED-455A-B20D-25404D8D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4727-889F-4DEB-8B2D-1A9DA5FE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0478-447B-45BD-AB87-19445F36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F0E4-2858-4BC2-988C-2ED71BB7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F60E-6E8D-4F65-9F97-8FCB2AB2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6FC4-7CCB-462F-A8D7-FD4D5F62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93C5-7909-40C7-B9D7-17B789D6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E692-4D51-4D59-828D-1FA995B1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6782-3BD9-40B8-8272-21E3320D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1F5B-5A1D-4A18-90A4-5F27D1AD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FC2B-319F-4149-A14E-8DB7E876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A61E-C498-4015-A593-F1273BB0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4CB5-9D90-4480-BFF6-FBD917C9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02F0-07FF-4B50-B6B0-2BD42249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CAAF-525B-416F-9CFE-569D0008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B9CEB-246E-4EFF-BC2A-24942CBF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53CD5-8332-4E0A-9D97-601479D0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4A59F-26D4-4FB8-9999-93CB23E1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FB250-851D-44D9-A25C-764FEFCC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466A9-777C-47F0-A63D-8DEDA1A5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DA2E-9DF3-4468-8D90-408DB787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6BF26-DCA2-4E44-97E1-4705DADE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048A1-BEDD-44E4-A593-3DA8C5DD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9BBA6-3FF1-4F12-AF80-78DAB901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1DA05-663C-4C08-A027-A81F648A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1F199-B56F-4E09-9504-1C8CA115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25519-A938-4B77-987F-1320C3BD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5A8B2-27A0-47D0-8C74-B0248897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C7FA4-FB77-4B89-B1C1-6417AB9E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30E0C-AAD4-410D-9297-204624F1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175E6-6C2B-409C-B1F7-25CCAE44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769F-607B-4C47-95CB-1EBE5E8D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2E50E-519E-4C80-B3E6-6B72F9E7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5B096-7E49-4D8B-AA6B-CAA8319D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80E08-DD69-471A-9237-21ECEC3F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18D1A-5E65-4F48-A7AC-1B2E6BC4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9769B-01C3-4A57-96D6-8EA5A381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A8E10-BD9B-44CF-B52C-33178C44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E5537-46FC-4538-822A-07A05D67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2D7BB-AA9F-4A96-B956-9A2D5F72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BF3B5-286E-41E4-883E-A5355B3F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5B41-99B4-405E-B19B-F3384EE8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72A3-63F4-4AB1-B541-E5E28216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44B7-D617-4D90-A503-10CE9632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2184-7B76-41B7-981D-AA7ACD74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AF1-E937-4A90-B3AD-3F9FE027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BC67-2482-4662-A742-6DF2A5BAE0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8404-D8B6-4776-BAE7-BDFE55A92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ADA1-8C42-417B-AF64-DAF35B2E3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62FE-F58F-443C-BC65-88F71DD76D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cybercomm.nl/%7Eivo/photo_GEORGE.html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Group 80" descr=""/>
          <p:cNvPicPr/>
          <p:nvPr/>
        </p:nvPicPr>
        <p:blipFill>
          <a:blip r:embed="rId1"/>
          <a:stretch/>
        </p:blipFill>
        <p:spPr>
          <a:xfrm>
            <a:off x="-6480" y="2139840"/>
            <a:ext cx="9156960" cy="311472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50"/>
          <p:cNvGrpSpPr/>
          <p:nvPr/>
        </p:nvGrpSpPr>
        <p:grpSpPr>
          <a:xfrm>
            <a:off x="0" y="3276720"/>
            <a:ext cx="9144000" cy="3124080"/>
            <a:chOff x="0" y="3276720"/>
            <a:chExt cx="9144000" cy="3124080"/>
          </a:xfrm>
        </p:grpSpPr>
        <p:sp>
          <p:nvSpPr>
            <p:cNvPr id="173" name="Wave 51"/>
            <p:cNvSpPr/>
            <p:nvPr/>
          </p:nvSpPr>
          <p:spPr>
            <a:xfrm>
              <a:off x="0" y="3276720"/>
              <a:ext cx="4572000" cy="3124080"/>
            </a:xfrm>
            <a:custGeom>
              <a:avLst/>
              <a:gdLst>
                <a:gd name="textAreaLeft" fmla="*/ 0 w 4572000"/>
                <a:gd name="textAreaRight" fmla="*/ 4572360 w 4572000"/>
                <a:gd name="textAreaTop" fmla="*/ 780840 h 3124080"/>
                <a:gd name="textAreaBottom" fmla="*/ 2343240 h 312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Wave 52"/>
            <p:cNvSpPr/>
            <p:nvPr/>
          </p:nvSpPr>
          <p:spPr>
            <a:xfrm>
              <a:off x="4572000" y="3276720"/>
              <a:ext cx="4572000" cy="3124080"/>
            </a:xfrm>
            <a:custGeom>
              <a:avLst/>
              <a:gdLst>
                <a:gd name="textAreaLeft" fmla="*/ 0 w 4572000"/>
                <a:gd name="textAreaRight" fmla="*/ 4572360 w 4572000"/>
                <a:gd name="textAreaTop" fmla="*/ 780840 h 3124080"/>
                <a:gd name="textAreaBottom" fmla="*/ 2343240 h 312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Wave 53"/>
          <p:cNvSpPr/>
          <p:nvPr/>
        </p:nvSpPr>
        <p:spPr>
          <a:xfrm>
            <a:off x="0" y="4191120"/>
            <a:ext cx="9144000" cy="3809880"/>
          </a:xfrm>
          <a:custGeom>
            <a:avLst/>
            <a:gdLst>
              <a:gd name="textAreaLeft" fmla="*/ 0 w 9144000"/>
              <a:gd name="textAreaRight" fmla="*/ 9144360 w 9144000"/>
              <a:gd name="textAreaTop" fmla="*/ 952560 h 3809880"/>
              <a:gd name="textAreaBottom" fmla="*/ 285768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7"/>
          <p:cNvSpPr/>
          <p:nvPr/>
        </p:nvSpPr>
        <p:spPr>
          <a:xfrm>
            <a:off x="357120" y="928800"/>
            <a:ext cx="750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arenting the “NET” Generation: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What makes our kids “click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ontentBox8"/>
          <p:cNvSpPr/>
          <p:nvPr/>
        </p:nvSpPr>
        <p:spPr>
          <a:xfrm>
            <a:off x="533520" y="3505320"/>
            <a:ext cx="838080" cy="63792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answers – well kind of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ontentBox9"/>
          <p:cNvSpPr/>
          <p:nvPr/>
        </p:nvSpPr>
        <p:spPr>
          <a:xfrm>
            <a:off x="4572000" y="3809880"/>
            <a:ext cx="942840" cy="71928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sk 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ontentBox10"/>
          <p:cNvSpPr/>
          <p:nvPr/>
        </p:nvSpPr>
        <p:spPr>
          <a:xfrm>
            <a:off x="6114960" y="4038480"/>
            <a:ext cx="895320" cy="68292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Homework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ontentBox1"/>
          <p:cNvSpPr/>
          <p:nvPr/>
        </p:nvSpPr>
        <p:spPr>
          <a:xfrm>
            <a:off x="609480" y="2362320"/>
            <a:ext cx="838440" cy="65232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et’s review where we w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ontentBox4"/>
          <p:cNvSpPr/>
          <p:nvPr/>
        </p:nvSpPr>
        <p:spPr>
          <a:xfrm>
            <a:off x="4267080" y="2895480"/>
            <a:ext cx="533520" cy="45108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OUR da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ontentBox6"/>
          <p:cNvSpPr/>
          <p:nvPr/>
        </p:nvSpPr>
        <p:spPr>
          <a:xfrm>
            <a:off x="6607080" y="2847960"/>
            <a:ext cx="631800" cy="55260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The Places they go and why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ontentBox2"/>
          <p:cNvSpPr/>
          <p:nvPr/>
        </p:nvSpPr>
        <p:spPr>
          <a:xfrm>
            <a:off x="2014560" y="2847960"/>
            <a:ext cx="576360" cy="50472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Some questions to start…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5"/>
          <p:cNvSpPr/>
          <p:nvPr/>
        </p:nvSpPr>
        <p:spPr>
          <a:xfrm>
            <a:off x="0" y="1676520"/>
            <a:ext cx="9129600" cy="974520"/>
          </a:xfrm>
          <a:custGeom>
            <a:avLst/>
            <a:gdLst/>
            <a:ahLst/>
            <a:rect l="l" t="t" r="r" b="b"/>
            <a:pathLst>
              <a:path w="9129486" h="974876">
                <a:moveTo>
                  <a:pt x="0" y="592666"/>
                </a:moveTo>
                <a:cubicBezTo>
                  <a:pt x="245533" y="382209"/>
                  <a:pt x="491066" y="171752"/>
                  <a:pt x="1030514" y="229809"/>
                </a:cubicBezTo>
                <a:cubicBezTo>
                  <a:pt x="1569962" y="287866"/>
                  <a:pt x="2559353" y="974876"/>
                  <a:pt x="3236686" y="941009"/>
                </a:cubicBezTo>
                <a:cubicBezTo>
                  <a:pt x="3914019" y="907142"/>
                  <a:pt x="4327676" y="53219"/>
                  <a:pt x="5094514" y="26609"/>
                </a:cubicBezTo>
                <a:cubicBezTo>
                  <a:pt x="5861352" y="0"/>
                  <a:pt x="7165219" y="732971"/>
                  <a:pt x="7837714" y="781352"/>
                </a:cubicBezTo>
                <a:cubicBezTo>
                  <a:pt x="8510209" y="829733"/>
                  <a:pt x="8819847" y="573314"/>
                  <a:pt x="9129486" y="31689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ontentBox7"/>
          <p:cNvSpPr/>
          <p:nvPr/>
        </p:nvSpPr>
        <p:spPr>
          <a:xfrm>
            <a:off x="7772400" y="3076560"/>
            <a:ext cx="860400" cy="75240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More Questions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tentBox3"/>
          <p:cNvSpPr/>
          <p:nvPr/>
        </p:nvSpPr>
        <p:spPr>
          <a:xfrm>
            <a:off x="3124080" y="3200400"/>
            <a:ext cx="631800" cy="55260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Presentation Intention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ontentBox5"/>
          <p:cNvSpPr/>
          <p:nvPr/>
        </p:nvSpPr>
        <p:spPr>
          <a:xfrm>
            <a:off x="5351400" y="2467080"/>
            <a:ext cx="636480" cy="50472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oday for our ki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ave 94"/>
          <p:cNvSpPr/>
          <p:nvPr/>
        </p:nvSpPr>
        <p:spPr>
          <a:xfrm>
            <a:off x="0" y="76320"/>
            <a:ext cx="9144000" cy="990360"/>
          </a:xfrm>
          <a:custGeom>
            <a:avLst/>
            <a:gdLst>
              <a:gd name="textAreaLeft" fmla="*/ 0 w 9144000"/>
              <a:gd name="textAreaRight" fmla="*/ 9144360 w 914400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0"/>
          <p:cNvSpPr/>
          <p:nvPr/>
        </p:nvSpPr>
        <p:spPr>
          <a:xfrm>
            <a:off x="0" y="64771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Wave 93"/>
          <p:cNvSpPr/>
          <p:nvPr/>
        </p:nvSpPr>
        <p:spPr>
          <a:xfrm>
            <a:off x="0" y="5791320"/>
            <a:ext cx="9144000" cy="990360"/>
          </a:xfrm>
          <a:custGeom>
            <a:avLst/>
            <a:gdLst>
              <a:gd name="textAreaLeft" fmla="*/ 0 w 9144000"/>
              <a:gd name="textAreaRight" fmla="*/ 9144360 w 914400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ontentBox11"/>
          <p:cNvSpPr/>
          <p:nvPr/>
        </p:nvSpPr>
        <p:spPr>
          <a:xfrm>
            <a:off x="7639200" y="4205160"/>
            <a:ext cx="752400" cy="27144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Presentation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ontentBox12"/>
          <p:cNvSpPr/>
          <p:nvPr/>
        </p:nvSpPr>
        <p:spPr>
          <a:xfrm>
            <a:off x="7639200" y="4506840"/>
            <a:ext cx="752400" cy="27144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Presentation 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85716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OUR da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emember Wh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 was a lot simpler when we were kid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32872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ight??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Fred Flintstone"/>
          <p:cNvPicPr/>
          <p:nvPr/>
        </p:nvPicPr>
        <p:blipFill>
          <a:blip r:embed="rId1"/>
          <a:stretch/>
        </p:blipFill>
        <p:spPr>
          <a:xfrm>
            <a:off x="857160" y="2643120"/>
            <a:ext cx="1238400" cy="2381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photo_GEOR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8840" y="5072040"/>
            <a:ext cx="1628640" cy="1276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3" descr="The Bridge"/>
          <p:cNvPicPr/>
          <p:nvPr/>
        </p:nvPicPr>
        <p:blipFill>
          <a:blip r:embed="rId4"/>
          <a:stretch/>
        </p:blipFill>
        <p:spPr>
          <a:xfrm>
            <a:off x="3000240" y="4143240"/>
            <a:ext cx="3019680" cy="2229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5" descr="jeannie001"/>
          <p:cNvPicPr/>
          <p:nvPr/>
        </p:nvPicPr>
        <p:blipFill>
          <a:blip r:embed="rId5"/>
          <a:stretch/>
        </p:blipFill>
        <p:spPr>
          <a:xfrm>
            <a:off x="4643280" y="1714680"/>
            <a:ext cx="1428840" cy="2266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7" descr="elvis-portrait3sm"/>
          <p:cNvPicPr/>
          <p:nvPr/>
        </p:nvPicPr>
        <p:blipFill>
          <a:blip r:embed="rId6"/>
          <a:stretch/>
        </p:blipFill>
        <p:spPr>
          <a:xfrm>
            <a:off x="7572240" y="2643120"/>
            <a:ext cx="1133640" cy="1511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9" descr="Woodstock Festival Remembered"/>
          <p:cNvPicPr/>
          <p:nvPr/>
        </p:nvPicPr>
        <p:blipFill>
          <a:blip r:embed="rId7"/>
          <a:stretch/>
        </p:blipFill>
        <p:spPr>
          <a:xfrm>
            <a:off x="6300720" y="4292640"/>
            <a:ext cx="1714680" cy="2095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Happy days.jpg"/>
          <p:cNvPicPr/>
          <p:nvPr/>
        </p:nvPicPr>
        <p:blipFill>
          <a:blip r:embed="rId8"/>
          <a:stretch/>
        </p:blipFill>
        <p:spPr>
          <a:xfrm>
            <a:off x="2500200" y="2714760"/>
            <a:ext cx="1667160" cy="1171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gilligans-island-season-2.jpg"/>
          <p:cNvPicPr/>
          <p:nvPr/>
        </p:nvPicPr>
        <p:blipFill>
          <a:blip r:embed="rId9"/>
          <a:stretch/>
        </p:blipFill>
        <p:spPr>
          <a:xfrm>
            <a:off x="7585200" y="357120"/>
            <a:ext cx="1558800" cy="1817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3" descr="Rubics cube.jpg"/>
          <p:cNvPicPr/>
          <p:nvPr/>
        </p:nvPicPr>
        <p:blipFill>
          <a:blip r:embed="rId10"/>
          <a:stretch/>
        </p:blipFill>
        <p:spPr>
          <a:xfrm>
            <a:off x="6429240" y="1928880"/>
            <a:ext cx="1047960" cy="1114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Atari_2600.png"/>
          <p:cNvPicPr/>
          <p:nvPr/>
        </p:nvPicPr>
        <p:blipFill>
          <a:blip r:embed="rId11"/>
          <a:stretch/>
        </p:blipFill>
        <p:spPr>
          <a:xfrm>
            <a:off x="285840" y="1214280"/>
            <a:ext cx="1352520" cy="13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World has chang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Friedm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The World is Fla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http://www.collegerecruiter.com/mt-static/plugins/ImageUp/uploaded/59449012046058the-world-is-flat-thomas-friedman-book.jpg"/>
          <p:cNvPicPr/>
          <p:nvPr/>
        </p:nvPicPr>
        <p:blipFill>
          <a:blip r:embed="rId1"/>
          <a:stretch/>
        </p:blipFill>
        <p:spPr>
          <a:xfrm>
            <a:off x="3357720" y="2143080"/>
            <a:ext cx="2684160" cy="40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78588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ile we were  busy growing up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all of the Berlin Wall, and the rise of the Windows P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ring – the dot com e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sourc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2.0 tools (move from passive retrieval of information to creating and sharing knowledg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day for our k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Impact"/>
              </a:rPr>
              <a:t>For our childr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children have never not known the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has always  been only one German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has always been admissible in cou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are wireless, yet always connec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333760" y="761760"/>
            <a:ext cx="3809880" cy="5715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FEATUREbeingbatman3"/>
          <p:cNvPicPr/>
          <p:nvPr/>
        </p:nvPicPr>
        <p:blipFill>
          <a:blip r:embed="rId2"/>
          <a:stretch/>
        </p:blipFill>
        <p:spPr>
          <a:xfrm>
            <a:off x="5643720" y="2357280"/>
            <a:ext cx="3152520" cy="23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have outgrown faxing as a means of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gle” has always been a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messaging is their e-m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have rarely mailed anything using a sta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Content Placeholder 5" descr="itouch.jpg"/>
          <p:cNvPicPr/>
          <p:nvPr/>
        </p:nvPicPr>
        <p:blipFill>
          <a:blip r:embed="rId1"/>
          <a:stretch/>
        </p:blipFill>
        <p:spPr>
          <a:xfrm>
            <a:off x="4786200" y="4214880"/>
            <a:ext cx="2357640" cy="1744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Terminator%202"/>
          <p:cNvPicPr/>
          <p:nvPr/>
        </p:nvPicPr>
        <p:blipFill>
          <a:blip r:embed="rId2"/>
          <a:stretch/>
        </p:blipFill>
        <p:spPr>
          <a:xfrm>
            <a:off x="6572160" y="642960"/>
            <a:ext cx="2210040" cy="3340080"/>
          </a:xfrm>
          <a:prstGeom prst="rect">
            <a:avLst/>
          </a:prstGeom>
          <a:ln w="0">
            <a:noFill/>
          </a:ln>
        </p:spPr>
      </p:pic>
      <p:sp>
        <p:nvSpPr>
          <p:cNvPr id="246" name="TextBox 5"/>
          <p:cNvSpPr/>
          <p:nvPr/>
        </p:nvSpPr>
        <p:spPr>
          <a:xfrm>
            <a:off x="4929120" y="607212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are their nee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though the world has changed dramatically, our kids “needs” remain the s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30" descr="http://www.dbtechno.com/images/teen_girls_phone.jpg"/>
          <p:cNvPicPr/>
          <p:nvPr/>
        </p:nvPicPr>
        <p:blipFill>
          <a:blip r:embed="rId1"/>
          <a:stretch/>
        </p:blipFill>
        <p:spPr>
          <a:xfrm>
            <a:off x="4714920" y="2643120"/>
            <a:ext cx="3514680" cy="35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y do they go online/use technology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needs does it meet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e of Belon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ing he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MPj04312170000[1]"/>
          <p:cNvPicPr/>
          <p:nvPr/>
        </p:nvPicPr>
        <p:blipFill>
          <a:blip r:embed="rId1"/>
          <a:stretch/>
        </p:blipFill>
        <p:spPr>
          <a:xfrm>
            <a:off x="5364000" y="2133720"/>
            <a:ext cx="302436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914400" y="171468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laces they go and wh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914400" y="171468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t’s review where we wer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laces They Go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57" name="Picture 8" descr="MCj03126460000[1]"/>
          <p:cNvPicPr/>
          <p:nvPr/>
        </p:nvPicPr>
        <p:blipFill>
          <a:blip r:embed="rId1"/>
          <a:stretch/>
        </p:blipFill>
        <p:spPr>
          <a:xfrm>
            <a:off x="3924360" y="2060640"/>
            <a:ext cx="2071800" cy="2111400"/>
          </a:xfrm>
          <a:prstGeom prst="rect">
            <a:avLst/>
          </a:prstGeom>
          <a:ln w="0">
            <a:noFill/>
          </a:ln>
        </p:spPr>
      </p:pic>
      <p:sp>
        <p:nvSpPr>
          <p:cNvPr id="258" name="WordArt 14"/>
          <p:cNvSpPr txBox="1"/>
          <p:nvPr/>
        </p:nvSpPr>
        <p:spPr>
          <a:xfrm rot="1010400">
            <a:off x="5867280" y="1341360"/>
            <a:ext cx="208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tun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WordArt 15"/>
          <p:cNvSpPr txBox="1"/>
          <p:nvPr/>
        </p:nvSpPr>
        <p:spPr>
          <a:xfrm>
            <a:off x="2268360" y="2349360"/>
            <a:ext cx="158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S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0" name="WordArt 16"/>
          <p:cNvSpPr txBox="1"/>
          <p:nvPr/>
        </p:nvSpPr>
        <p:spPr>
          <a:xfrm rot="21163800">
            <a:off x="5940000" y="4149720"/>
            <a:ext cx="2735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Nexop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61" name="WordArt 17"/>
          <p:cNvSpPr txBox="1"/>
          <p:nvPr/>
        </p:nvSpPr>
        <p:spPr>
          <a:xfrm rot="21177600">
            <a:off x="539280" y="3644640"/>
            <a:ext cx="237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624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YouTub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624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2" name="WordArt 18"/>
          <p:cNvSpPr txBox="1"/>
          <p:nvPr/>
        </p:nvSpPr>
        <p:spPr>
          <a:xfrm>
            <a:off x="6227640" y="2924280"/>
            <a:ext cx="223200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acebook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3" name="WordArt 19"/>
          <p:cNvSpPr txBox="1"/>
          <p:nvPr/>
        </p:nvSpPr>
        <p:spPr>
          <a:xfrm>
            <a:off x="3780000" y="907920"/>
            <a:ext cx="1428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am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WordArt 20"/>
          <p:cNvSpPr txBox="1"/>
          <p:nvPr/>
        </p:nvSpPr>
        <p:spPr>
          <a:xfrm>
            <a:off x="4427640" y="5734080"/>
            <a:ext cx="2257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ySpac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5" name="WordArt 21"/>
          <p:cNvSpPr txBox="1"/>
          <p:nvPr/>
        </p:nvSpPr>
        <p:spPr>
          <a:xfrm>
            <a:off x="3995640" y="4365720"/>
            <a:ext cx="14194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Flick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66" name="WordArt 22"/>
          <p:cNvSpPr txBox="1"/>
          <p:nvPr/>
        </p:nvSpPr>
        <p:spPr>
          <a:xfrm rot="21228600">
            <a:off x="755640" y="148392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6132000"/>
                </a:gradFill>
                <a:latin typeface="Arial Black"/>
              </a:rPr>
              <a:t>Limewi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6132000"/>
              </a:gradFill>
              <a:latin typeface="Arial Black"/>
              <a:ea typeface="Arial Black"/>
            </a:endParaRPr>
          </a:p>
        </p:txBody>
      </p:sp>
      <p:sp>
        <p:nvSpPr>
          <p:cNvPr id="267" name="WordArt 27"/>
          <p:cNvSpPr txBox="1"/>
          <p:nvPr/>
        </p:nvSpPr>
        <p:spPr>
          <a:xfrm>
            <a:off x="1835280" y="5300640"/>
            <a:ext cx="17524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oog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68" name="Picture 2" descr="http://www.seattlebeerweek.com/images/twitter_logo.png"/>
          <p:cNvPicPr/>
          <p:nvPr/>
        </p:nvPicPr>
        <p:blipFill>
          <a:blip r:embed="rId6"/>
          <a:stretch/>
        </p:blipFill>
        <p:spPr>
          <a:xfrm>
            <a:off x="6261120" y="5000760"/>
            <a:ext cx="2882880" cy="1065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http://www.retirement-jobs-online.com/images/ebay-logo.jpg"/>
          <p:cNvPicPr/>
          <p:nvPr/>
        </p:nvPicPr>
        <p:blipFill>
          <a:blip r:embed="rId7"/>
          <a:stretch/>
        </p:blipFill>
        <p:spPr>
          <a:xfrm>
            <a:off x="357120" y="5429160"/>
            <a:ext cx="1274760" cy="1208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http://www.mspmentor.net/wp-content/uploads/2009/02/mspmentor-and-the-var-guy-podcasts-on-itunes.jpg"/>
          <p:cNvPicPr/>
          <p:nvPr/>
        </p:nvPicPr>
        <p:blipFill>
          <a:blip r:embed="rId8"/>
          <a:stretch/>
        </p:blipFill>
        <p:spPr>
          <a:xfrm>
            <a:off x="7358040" y="285840"/>
            <a:ext cx="1192320" cy="12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82560" y="837720"/>
            <a:ext cx="7772400" cy="5257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w Theory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haly Csikszentmihaly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"/>
          <p:cNvSpPr/>
          <p:nvPr/>
        </p:nvSpPr>
        <p:spPr>
          <a:xfrm>
            <a:off x="1981080" y="48769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"/>
          <p:cNvSpPr/>
          <p:nvPr/>
        </p:nvSpPr>
        <p:spPr>
          <a:xfrm flipV="1">
            <a:off x="1981080" y="1447560"/>
            <a:ext cx="7632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2743200" y="51814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3733920" y="5181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 rot="5400000">
            <a:off x="74520" y="34275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8"/>
          <p:cNvSpPr/>
          <p:nvPr/>
        </p:nvSpPr>
        <p:spPr>
          <a:xfrm flipV="1">
            <a:off x="1981080" y="251460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2057400" y="243828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0"/>
          <p:cNvSpPr/>
          <p:nvPr/>
        </p:nvSpPr>
        <p:spPr>
          <a:xfrm flipV="1">
            <a:off x="3124080" y="1600200"/>
            <a:ext cx="251460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 flipH="1" flipV="1">
            <a:off x="3733560" y="1523880"/>
            <a:ext cx="1447560" cy="335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2133720" y="4038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2057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22096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3886200" y="1447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5181480" y="2133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52578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5029200" y="3962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3581280" y="4191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857160" y="1071720"/>
            <a:ext cx="7772400" cy="48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hat do you want for your children…with technology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357120" y="192888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fet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2d050"/>
                </a:solidFill>
                <a:latin typeface="Arial"/>
              </a:rPr>
              <a:t>Bala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Healthy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screen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igital Literac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cial/Digital Respons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Positiv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ocial Networking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Responsible E-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Question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Possible Questions for me…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uch technology should I allow my children 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can I do about issues around email; msn; social network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prevent these issues from happen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learn more about tech and the issues surrounding it’s 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es this help my parent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more questions for YOU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0008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/are your computers in your  hom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you plac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mi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n your Children’s computer 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as had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vers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their child about Internet Safety or Cyberbully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ere has adopte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amily expecta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or children around online/computer 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"/>
          <p:cNvSpPr/>
          <p:nvPr/>
        </p:nvSpPr>
        <p:spPr>
          <a:xfrm>
            <a:off x="928800" y="178596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answers – well kind of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are </a:t>
            </a:r>
            <a:r>
              <a:rPr b="0" lang="en-US" sz="3600" spc="-1" strike="noStrike" u="sng">
                <a:solidFill>
                  <a:srgbClr val="0070c0"/>
                </a:solidFill>
                <a:uFillTx/>
                <a:latin typeface="Impact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going to do about it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57120" y="785520"/>
            <a:ext cx="8501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expecta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Proactiv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th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onversatio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generate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ow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s (YouTube videos, case-based scenarios, teachable moment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ablish a respons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“plan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Reactiv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available to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“support not punish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rve your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attach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Impact"/>
              </a:rPr>
              <a:t>Be Involved and connect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onlin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act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 game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ch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ag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…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with THEM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3" descr="Kids.JPG"/>
          <p:cNvPicPr/>
          <p:nvPr/>
        </p:nvPicPr>
        <p:blipFill>
          <a:blip r:embed="rId1"/>
          <a:stretch/>
        </p:blipFill>
        <p:spPr>
          <a:xfrm>
            <a:off x="5429160" y="1143000"/>
            <a:ext cx="262584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r First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13880" y="928440"/>
            <a:ext cx="79297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we wa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our ki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WE were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you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Children’s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NEE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are these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Cybor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 they go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onli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challeng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opportunit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we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bout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k M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ntact information and Resourc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371600" y="1071360"/>
            <a:ext cx="77724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Sand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ands@sd43.bc.ca or dave.h.sands@gmail.co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connectandprotect.wikispaces.com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only the beginning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mewor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Impact"/>
              </a:rPr>
              <a:t>Homework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714240" y="85680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it my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Wiki pag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look at 3 different articles/video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online and establish 3 new accounts on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web 2.0 too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e.g. Facebook, Club Penguin, MSN, Youtube, ePets, Twitter, WebKins, etc.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Tal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your child/ren about one or more of these tool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a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Intention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85880" y="1000080"/>
            <a:ext cx="77724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xamine and engage in our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children’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 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increase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competenc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ound addressing the potential challenges these tools pres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provide you with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support and resourc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better understand these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ncourage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roactive strategi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maintain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connec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an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gui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children on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57120" y="1499760"/>
            <a:ext cx="8344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SN Messe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ub Pengu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eboo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tub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7" descr="online-tools-business-should-be-using.jpg"/>
          <p:cNvPicPr/>
          <p:nvPr/>
        </p:nvPicPr>
        <p:blipFill>
          <a:blip r:embed="rId1"/>
          <a:stretch/>
        </p:blipFill>
        <p:spPr>
          <a:xfrm>
            <a:off x="3714840" y="3643200"/>
            <a:ext cx="3524040" cy="2643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tools.jpg"/>
          <p:cNvPicPr/>
          <p:nvPr/>
        </p:nvPicPr>
        <p:blipFill>
          <a:blip r:embed="rId2"/>
          <a:stretch/>
        </p:blipFill>
        <p:spPr>
          <a:xfrm>
            <a:off x="4286160" y="285840"/>
            <a:ext cx="235764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MSN Messenger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28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t Messenging (I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mily L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" descr="messenger.jpg"/>
          <p:cNvPicPr/>
          <p:nvPr/>
        </p:nvPicPr>
        <p:blipFill>
          <a:blip r:embed="rId1"/>
          <a:stretch/>
        </p:blipFill>
        <p:spPr>
          <a:xfrm>
            <a:off x="4286160" y="207180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ub Penguin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000080" y="785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 to Social Networ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 to IM (Safe Cha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ent Contr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clubpenguin.jpg"/>
          <p:cNvPicPr/>
          <p:nvPr/>
        </p:nvPicPr>
        <p:blipFill>
          <a:blip r:embed="rId1"/>
          <a:stretch/>
        </p:blipFill>
        <p:spPr>
          <a:xfrm>
            <a:off x="4786200" y="2786040"/>
            <a:ext cx="392904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Facebook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334" name="Content Placeholder 3" descr="facebook_logo.jpg"/>
          <p:cNvPicPr/>
          <p:nvPr/>
        </p:nvPicPr>
        <p:blipFill>
          <a:blip r:embed="rId1"/>
          <a:stretch/>
        </p:blipFill>
        <p:spPr>
          <a:xfrm>
            <a:off x="2286000" y="4500720"/>
            <a:ext cx="5202360" cy="1957320"/>
          </a:xfrm>
          <a:prstGeom prst="rect">
            <a:avLst/>
          </a:prstGeom>
          <a:ln w="0">
            <a:noFill/>
          </a:ln>
        </p:spPr>
      </p:pic>
      <p:sp>
        <p:nvSpPr>
          <p:cNvPr id="335" name="TextBox 4"/>
          <p:cNvSpPr/>
          <p:nvPr/>
        </p:nvSpPr>
        <p:spPr>
          <a:xfrm>
            <a:off x="1214280" y="1357200"/>
            <a:ext cx="7572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Social Net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Frie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vacy Set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a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nkpen2 Script"/>
              </a:rPr>
              <a:t>Do’s and Don’ts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785880" y="1714680"/>
          <a:ext cx="7772400" cy="4572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Inkpen2 Script"/>
                        </a:rPr>
                        <a:t>D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Inkpen2 Script"/>
                        </a:rPr>
                        <a:t>DON’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Inkpen2 Script"/>
                        </a:rPr>
                        <a:t>Understan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Inkpen2 Script"/>
                        </a:rPr>
                        <a:t>Ba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Inkpen2 Script"/>
                        </a:rPr>
                        <a:t>Monito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Inkpen2 Script"/>
                        </a:rPr>
                        <a:t>Contro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Inkpen2 Script"/>
                        </a:rPr>
                        <a:t>Connec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Inkpen2 Script"/>
                        </a:rPr>
                        <a:t>Ignor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Inkpen2 Script"/>
                        </a:rPr>
                        <a:t>Engag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Inkpen2 Script"/>
                        </a:rPr>
                        <a:t>Avoi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Inkpen2 Script"/>
                        </a:rPr>
                        <a:t>Communicat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Inkpen2 Script"/>
                        </a:rPr>
                        <a:t>Disregar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ntact information and Resourc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371600" y="1071360"/>
            <a:ext cx="77724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Sand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ands@sd43.bc.ca or dave.h.sands@gmail.co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connectandprotect.wikispaces.com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only the beginning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do we want for our ki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03" name="Diagram 3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37568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me questions to star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 Questions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00080" y="114264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of you have a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personal profi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in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a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sted videos or pictur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mselves or their family onlin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ere engages in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Text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of you have an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iPod/iPho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plays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video gam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ation Inten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Learning Intention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xamine our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children’s 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echnolog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increase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your awarenes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potential challenges around technology u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provide you with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support and resourc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better understand these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ncourage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ractical, proactive parenting strategi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maintain connections with you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23:17:24Z</dcterms:created>
  <dc:creator>gkern</dc:creator>
  <dc:description/>
  <dc:language>en-US</dc:language>
  <cp:lastModifiedBy>test</cp:lastModifiedBy>
  <dcterms:modified xsi:type="dcterms:W3CDTF">2010-03-04T23:15:20Z</dcterms:modified>
  <cp:revision>65</cp:revision>
  <dc:subject/>
  <dc:title>Technology, kids and you</dc:title>
</cp:coreProperties>
</file>